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6EC2-EADF-422B-BD64-10F0D47C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6FE-91DC-421C-B79C-2B41392E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63E-D585-4B49-A407-38FD07FA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288-CA02-49CD-90E8-7A3EED2D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A15-FA01-4171-9947-E5660562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74A-2D11-47B8-A113-922C3446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1C2-9A59-4A5B-8EB2-58C8860F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EA6-7B35-4B50-9990-20ADF846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F4F-A215-435C-8C31-5CAC143A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519-8A23-40B2-812D-EED3BEE8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486-55C0-459A-BCC5-280FA725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90A-3592-4B98-A303-A52F04A1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7BDF-4782-4A4B-8319-AA6645E7B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ffthemark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logster.edu.com/" TargetMode="External"/><Relationship Id="rId2" Type="http://schemas.openxmlformats.org/officeDocument/2006/relationships/hyperlink" Target="http://www.waterencyclopedia.com/Mi-Oc/Ocean-Currents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228600"/>
            <a:ext cx="2133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hat Matters Most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387160" y="228600"/>
            <a:ext cx="659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uhaus 93"/>
              </a:rPr>
              <a:t>Density in the Real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2560" y="1371600"/>
            <a:ext cx="26906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uhaus 93"/>
              </a:rPr>
              <a:t>Occu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orolog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log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anogra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yc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itation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leboto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atolog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 air balloon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plan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llurg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eralog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ation 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4416480"/>
            <a:ext cx="27590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uhaus 93"/>
              </a:rPr>
              <a:t>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detail will you contribu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r 1: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r 2: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r 3: 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r 4: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04080" y="1295280"/>
            <a:ext cx="31399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uhaus 93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dens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 of what your occupation does and what type of training do you n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density used in this occup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cience skills needed for this occup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liography/C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5480" y="1143000"/>
            <a:ext cx="259092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9880" y="3962520"/>
            <a:ext cx="161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ffthemark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523880"/>
            <a:ext cx="19051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team needs to research the occupation assigned to you and find out how density is used as a property of matter by individuals that do this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87160" y="533520"/>
            <a:ext cx="659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uhaus 93"/>
              </a:rPr>
              <a:t>Density in the Real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228600"/>
            <a:ext cx="2133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hat Matters Most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4800600"/>
            <a:ext cx="237780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uhaus 93"/>
              </a:rPr>
              <a:t>Glog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team is to create a G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review the handout on how to make a G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1523880"/>
            <a:ext cx="25304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logster.edu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aterencyclopedia.com/Mi-Oc/Ocean-Curren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666880" y="1447920"/>
            <a:ext cx="2819520" cy="3352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19920" y="4876920"/>
            <a:ext cx="335268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uhaus 93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ppt slide on your top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ve slide as jp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pg to Glog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write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867280" y="2743200"/>
            <a:ext cx="274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6:02:18Z</dcterms:created>
  <dc:creator>tech8</dc:creator>
  <dc:description/>
  <dc:language>en-US</dc:language>
  <cp:lastModifiedBy>tech8</cp:lastModifiedBy>
  <dcterms:modified xsi:type="dcterms:W3CDTF">2010-08-06T16:36:01Z</dcterms:modified>
  <cp:revision>2</cp:revision>
  <dc:subject/>
  <dc:title>Slide 1</dc:title>
</cp:coreProperties>
</file>